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45A-CF9D-49B2-A4AD-D9AA36D2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8880" y="374436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1DE-011F-47F6-8D4F-334E46F8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4460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0A5-D5CC-4623-9966-3AD8745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2496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42068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2888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602496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42068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4F5-D472-45D0-8458-F35EC39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E5A6-CA2D-4E7C-8B56-6FF338DC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28880" y="3505320"/>
            <a:ext cx="412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B0C9-59A7-467F-A815-6CF1B61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4128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8EA-1D70-4585-9AF3-4B6BFB06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C55-DF5D-4B81-B82E-2B1EE44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773-AE7A-4A0D-BC22-C7CBD65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85680" y="3787920"/>
            <a:ext cx="7772400" cy="41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747-5530-4A5D-9C82-F05DFAB1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9656-600E-4D17-AF71-7A8C445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28880" y="3505320"/>
            <a:ext cx="412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A8E-AA95-453D-8130-1AC85FC0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4460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F0F-174C-45DD-B3FB-DAD0D10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C93-EC56-4C84-8702-FEE73B2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8880" y="374436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590C-74C3-4C71-9200-D46B6C2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74460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2BA4-A989-4A97-B206-D1E720FF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2496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0680" y="350532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888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602496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420680" y="3744360"/>
            <a:ext cx="1329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11AD-A960-4C28-AC7E-ABE6DAE3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4128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4DE-C38C-487B-8BAF-3E8D52C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39D-3E1A-43E2-8EAF-2750362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09A-6147-4ECF-B10B-BC649E9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85680" y="3787920"/>
            <a:ext cx="7772400" cy="41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72D-B463-4769-8E95-CCC8B4E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628-CD2F-498A-90FC-6CFEB92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4600" y="374436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795-BE11-41B7-B5D7-F70F7A7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2888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44600" y="3505320"/>
            <a:ext cx="2014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28880" y="3744360"/>
            <a:ext cx="41288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E21-644A-4DE4-8639-507A196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58280" y="0"/>
            <a:ext cx="1104840" cy="6848640"/>
          </a:xfrm>
          <a:custGeom>
            <a:avLst/>
            <a:gdLst/>
            <a:ahLst/>
            <a:rect l="l" t="t" r="r" b="b"/>
            <a:pathLst>
              <a:path w="696" h="4314">
                <a:moveTo>
                  <a:pt x="312" y="0"/>
                </a:moveTo>
                <a:lnTo>
                  <a:pt x="528" y="444"/>
                </a:lnTo>
                <a:lnTo>
                  <a:pt x="696" y="960"/>
                </a:lnTo>
                <a:lnTo>
                  <a:pt x="426" y="4314"/>
                </a:lnTo>
                <a:lnTo>
                  <a:pt x="108" y="4314"/>
                </a:lnTo>
                <a:lnTo>
                  <a:pt x="648" y="960"/>
                </a:lnTo>
                <a:lnTo>
                  <a:pt x="456" y="432"/>
                </a:lnTo>
                <a:lnTo>
                  <a:pt x="0" y="0"/>
                </a:lnTo>
                <a:lnTo>
                  <a:pt x="312" y="0"/>
                </a:lnTo>
                <a:close/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0"/>
            <a:ext cx="7543800" cy="6858000"/>
          </a:xfrm>
          <a:custGeom>
            <a:avLst/>
            <a:gdLst/>
            <a:ahLst/>
            <a:rect l="l" t="t" r="r" b="b"/>
            <a:pathLst>
              <a:path w="4752" h="4320">
                <a:moveTo>
                  <a:pt x="0" y="0"/>
                </a:moveTo>
                <a:lnTo>
                  <a:pt x="1536" y="0"/>
                </a:lnTo>
                <a:lnTo>
                  <a:pt x="4590" y="450"/>
                </a:lnTo>
                <a:lnTo>
                  <a:pt x="4752" y="972"/>
                </a:lnTo>
                <a:lnTo>
                  <a:pt x="3600" y="4320"/>
                </a:lnTo>
                <a:lnTo>
                  <a:pt x="3312" y="4320"/>
                </a:lnTo>
                <a:lnTo>
                  <a:pt x="4712" y="994"/>
                </a:lnTo>
                <a:lnTo>
                  <a:pt x="4518" y="524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86400" y="1657440"/>
            <a:ext cx="2990880" cy="5200560"/>
          </a:xfrm>
          <a:custGeom>
            <a:avLst/>
            <a:gdLst/>
            <a:ahLst/>
            <a:rect l="l" t="t" r="r" b="b"/>
            <a:pathLst>
              <a:path w="1884" h="3276">
                <a:moveTo>
                  <a:pt x="384" y="3276"/>
                </a:moveTo>
                <a:lnTo>
                  <a:pt x="1884" y="0"/>
                </a:lnTo>
                <a:lnTo>
                  <a:pt x="0" y="3276"/>
                </a:lnTo>
                <a:lnTo>
                  <a:pt x="384" y="3276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29000" y="0"/>
            <a:ext cx="5172120" cy="6858000"/>
          </a:xfrm>
          <a:custGeom>
            <a:avLst/>
            <a:gdLst/>
            <a:ahLst/>
            <a:rect l="l" t="t" r="r" b="b"/>
            <a:pathLst>
              <a:path w="3258" h="4320">
                <a:moveTo>
                  <a:pt x="0" y="0"/>
                </a:moveTo>
                <a:lnTo>
                  <a:pt x="3082" y="475"/>
                </a:lnTo>
                <a:lnTo>
                  <a:pt x="3210" y="936"/>
                </a:lnTo>
                <a:lnTo>
                  <a:pt x="1728" y="4320"/>
                </a:lnTo>
                <a:lnTo>
                  <a:pt x="1872" y="4320"/>
                </a:lnTo>
                <a:lnTo>
                  <a:pt x="3258" y="912"/>
                </a:lnTo>
                <a:lnTo>
                  <a:pt x="3120" y="432"/>
                </a:lnTo>
                <a:lnTo>
                  <a:pt x="1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81880" y="0"/>
            <a:ext cx="762120" cy="1143000"/>
          </a:xfrm>
          <a:custGeom>
            <a:avLst/>
            <a:gdLst/>
            <a:ahLst/>
            <a:rect l="l" t="t" r="r" b="b"/>
            <a:pathLst>
              <a:path w="480" h="720">
                <a:moveTo>
                  <a:pt x="48" y="0"/>
                </a:moveTo>
                <a:lnTo>
                  <a:pt x="0" y="96"/>
                </a:lnTo>
                <a:lnTo>
                  <a:pt x="354" y="690"/>
                </a:lnTo>
                <a:lnTo>
                  <a:pt x="480" y="720"/>
                </a:lnTo>
                <a:lnTo>
                  <a:pt x="480" y="576"/>
                </a:lnTo>
                <a:lnTo>
                  <a:pt x="48" y="96"/>
                </a:lnTo>
                <a:lnTo>
                  <a:pt x="89" y="0"/>
                </a:lnTo>
                <a:lnTo>
                  <a:pt x="48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610480" y="228600"/>
            <a:ext cx="5335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336"/>
                </a:moveTo>
                <a:lnTo>
                  <a:pt x="0" y="0"/>
                </a:lnTo>
                <a:lnTo>
                  <a:pt x="336" y="240"/>
                </a:lnTo>
                <a:lnTo>
                  <a:pt x="336" y="336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562720" y="0"/>
            <a:ext cx="3267000" cy="6858000"/>
            <a:chOff x="5562720" y="0"/>
            <a:chExt cx="3267000" cy="6858000"/>
          </a:xfrm>
        </p:grpSpPr>
        <p:sp>
          <p:nvSpPr>
            <p:cNvPr id="7" name=""/>
            <p:cNvSpPr/>
            <p:nvPr/>
          </p:nvSpPr>
          <p:spPr>
            <a:xfrm>
              <a:off x="5562720" y="0"/>
              <a:ext cx="3267000" cy="6858000"/>
            </a:xfrm>
            <a:custGeom>
              <a:avLst/>
              <a:gdLst/>
              <a:ahLst/>
              <a:rect l="l" t="t" r="r" b="b"/>
              <a:pathLst>
                <a:path w="2058" h="4320">
                  <a:moveTo>
                    <a:pt x="0" y="0"/>
                  </a:moveTo>
                  <a:lnTo>
                    <a:pt x="1056" y="0"/>
                  </a:lnTo>
                  <a:lnTo>
                    <a:pt x="1854" y="402"/>
                  </a:lnTo>
                  <a:lnTo>
                    <a:pt x="2058" y="972"/>
                  </a:lnTo>
                  <a:lnTo>
                    <a:pt x="1296" y="4320"/>
                  </a:lnTo>
                  <a:lnTo>
                    <a:pt x="720" y="4320"/>
                  </a:lnTo>
                  <a:lnTo>
                    <a:pt x="1920" y="912"/>
                  </a:lnTo>
                  <a:lnTo>
                    <a:pt x="1776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94560" y="1676520"/>
              <a:ext cx="1828800" cy="5181480"/>
            </a:xfrm>
            <a:custGeom>
              <a:avLst/>
              <a:gdLst/>
              <a:ahLst/>
              <a:rect l="l" t="t" r="r" b="b"/>
              <a:pathLst>
                <a:path w="1152" h="3264">
                  <a:moveTo>
                    <a:pt x="0" y="3264"/>
                  </a:moveTo>
                  <a:lnTo>
                    <a:pt x="1152" y="0"/>
                  </a:lnTo>
                  <a:lnTo>
                    <a:pt x="96" y="3264"/>
                  </a:lnTo>
                  <a:lnTo>
                    <a:pt x="0" y="3264"/>
                  </a:lnTo>
                  <a:close/>
                </a:path>
              </a:pathLst>
            </a:custGeom>
            <a:solidFill>
              <a:srgbClr val="f9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142920" y="765000"/>
            <a:ext cx="8858160" cy="5943600"/>
            <a:chOff x="142920" y="765000"/>
            <a:chExt cx="8858160" cy="5943600"/>
          </a:xfrm>
        </p:grpSpPr>
        <p:sp>
          <p:nvSpPr>
            <p:cNvPr id="10" name="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2920" y="765000"/>
              <a:ext cx="8858160" cy="594360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380880" y="676440"/>
            <a:ext cx="6248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500040" y="57780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834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7848-31C6-4232-BB05-B8BA0AAD67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9360" y="2997360"/>
            <a:ext cx="2205000" cy="2663640"/>
          </a:xfrm>
          <a:custGeom>
            <a:avLst/>
            <a:gdLst/>
            <a:ahLst/>
            <a:rect l="l" t="t" r="r" b="b"/>
            <a:pathLst>
              <a:path w="1406" h="1678">
                <a:moveTo>
                  <a:pt x="0" y="1678"/>
                </a:moveTo>
                <a:lnTo>
                  <a:pt x="0" y="1134"/>
                </a:lnTo>
                <a:lnTo>
                  <a:pt x="1406" y="0"/>
                </a:lnTo>
                <a:lnTo>
                  <a:pt x="1406" y="91"/>
                </a:lnTo>
                <a:lnTo>
                  <a:pt x="0" y="167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7920" y="1782720"/>
            <a:ext cx="735948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8440" y="-9360"/>
            <a:ext cx="1784160" cy="6875280"/>
          </a:xfrm>
          <a:custGeom>
            <a:avLst/>
            <a:gdLst/>
            <a:ahLst/>
            <a:rect l="l" t="t" r="r" b="b"/>
            <a:pathLst>
              <a:path w="1124" h="4343">
                <a:moveTo>
                  <a:pt x="0" y="0"/>
                </a:moveTo>
                <a:lnTo>
                  <a:pt x="490" y="2"/>
                </a:lnTo>
                <a:lnTo>
                  <a:pt x="1124" y="1373"/>
                </a:lnTo>
                <a:lnTo>
                  <a:pt x="1124" y="2036"/>
                </a:lnTo>
                <a:lnTo>
                  <a:pt x="889" y="4343"/>
                </a:lnTo>
                <a:lnTo>
                  <a:pt x="526" y="4343"/>
                </a:lnTo>
                <a:lnTo>
                  <a:pt x="1079" y="2031"/>
                </a:lnTo>
                <a:lnTo>
                  <a:pt x="1079" y="1383"/>
                </a:lnTo>
                <a:lnTo>
                  <a:pt x="0" y="0"/>
                </a:lnTo>
                <a:close/>
              </a:path>
            </a:pathLst>
          </a:custGeom>
          <a:solidFill>
            <a:srgbClr val="b4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2600" y="-9360"/>
            <a:ext cx="2392200" cy="6879960"/>
          </a:xfrm>
          <a:custGeom>
            <a:avLst/>
            <a:gdLst/>
            <a:ahLst/>
            <a:rect l="l" t="t" r="r" b="b"/>
            <a:pathLst>
              <a:path w="1507" h="4334">
                <a:moveTo>
                  <a:pt x="181" y="0"/>
                </a:moveTo>
                <a:lnTo>
                  <a:pt x="1507" y="1379"/>
                </a:lnTo>
                <a:lnTo>
                  <a:pt x="1507" y="2036"/>
                </a:lnTo>
                <a:lnTo>
                  <a:pt x="727" y="4334"/>
                </a:lnTo>
                <a:lnTo>
                  <a:pt x="2" y="4334"/>
                </a:lnTo>
                <a:lnTo>
                  <a:pt x="2" y="4162"/>
                </a:lnTo>
                <a:lnTo>
                  <a:pt x="1441" y="1936"/>
                </a:lnTo>
                <a:lnTo>
                  <a:pt x="1441" y="1447"/>
                </a:lnTo>
                <a:lnTo>
                  <a:pt x="8" y="434"/>
                </a:lnTo>
                <a:lnTo>
                  <a:pt x="0" y="6"/>
                </a:lnTo>
                <a:lnTo>
                  <a:pt x="181" y="0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440" y="0"/>
            <a:ext cx="3022560" cy="6858000"/>
          </a:xfrm>
          <a:custGeom>
            <a:avLst/>
            <a:gdLst/>
            <a:ahLst/>
            <a:rect l="l" t="t" r="r" b="b"/>
            <a:pathLst>
              <a:path w="1904" h="4354">
                <a:moveTo>
                  <a:pt x="1904" y="0"/>
                </a:moveTo>
                <a:lnTo>
                  <a:pt x="1178" y="0"/>
                </a:lnTo>
                <a:lnTo>
                  <a:pt x="0" y="1342"/>
                </a:lnTo>
                <a:lnTo>
                  <a:pt x="0" y="1950"/>
                </a:lnTo>
                <a:lnTo>
                  <a:pt x="498" y="4354"/>
                </a:lnTo>
                <a:lnTo>
                  <a:pt x="1088" y="4354"/>
                </a:lnTo>
                <a:lnTo>
                  <a:pt x="44" y="1985"/>
                </a:lnTo>
                <a:lnTo>
                  <a:pt x="44" y="1361"/>
                </a:lnTo>
                <a:lnTo>
                  <a:pt x="190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59200" y="-14400"/>
            <a:ext cx="2711520" cy="1887480"/>
          </a:xfrm>
          <a:custGeom>
            <a:avLst/>
            <a:gdLst/>
            <a:ahLst/>
            <a:rect l="l" t="t" r="r" b="b"/>
            <a:pathLst>
              <a:path w="1708" h="1189">
                <a:moveTo>
                  <a:pt x="1708" y="1"/>
                </a:moveTo>
                <a:lnTo>
                  <a:pt x="1379" y="0"/>
                </a:lnTo>
                <a:lnTo>
                  <a:pt x="0" y="1189"/>
                </a:lnTo>
                <a:lnTo>
                  <a:pt x="1708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98760" y="-9360"/>
            <a:ext cx="6105600" cy="6867360"/>
          </a:xfrm>
          <a:custGeom>
            <a:avLst/>
            <a:gdLst/>
            <a:ahLst/>
            <a:rect l="l" t="t" r="r" b="b"/>
            <a:pathLst>
              <a:path w="3846" h="4354">
                <a:moveTo>
                  <a:pt x="3665" y="0"/>
                </a:moveTo>
                <a:lnTo>
                  <a:pt x="2122" y="0"/>
                </a:lnTo>
                <a:lnTo>
                  <a:pt x="0" y="1339"/>
                </a:lnTo>
                <a:lnTo>
                  <a:pt x="0" y="1950"/>
                </a:lnTo>
                <a:lnTo>
                  <a:pt x="1215" y="4354"/>
                </a:lnTo>
                <a:lnTo>
                  <a:pt x="1941" y="4354"/>
                </a:lnTo>
                <a:lnTo>
                  <a:pt x="72" y="1877"/>
                </a:lnTo>
                <a:lnTo>
                  <a:pt x="72" y="1361"/>
                </a:lnTo>
                <a:lnTo>
                  <a:pt x="3846" y="0"/>
                </a:lnTo>
                <a:lnTo>
                  <a:pt x="2122" y="0"/>
                </a:lnTo>
              </a:path>
            </a:pathLst>
          </a:cu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9360" y="185760"/>
            <a:ext cx="2246040" cy="5985000"/>
          </a:xfrm>
          <a:custGeom>
            <a:avLst/>
            <a:gdLst/>
            <a:ahLst/>
            <a:rect l="l" t="t" r="r" b="b"/>
            <a:pathLst>
              <a:path w="1415" h="3770">
                <a:moveTo>
                  <a:pt x="0" y="0"/>
                </a:moveTo>
                <a:lnTo>
                  <a:pt x="1415" y="1197"/>
                </a:lnTo>
                <a:lnTo>
                  <a:pt x="1415" y="1862"/>
                </a:lnTo>
                <a:lnTo>
                  <a:pt x="0" y="3770"/>
                </a:lnTo>
                <a:lnTo>
                  <a:pt x="0" y="3272"/>
                </a:lnTo>
                <a:lnTo>
                  <a:pt x="1376" y="1801"/>
                </a:lnTo>
                <a:lnTo>
                  <a:pt x="1376" y="1272"/>
                </a:lnTo>
                <a:lnTo>
                  <a:pt x="6" y="962"/>
                </a:lnTo>
                <a:lnTo>
                  <a:pt x="0" y="0"/>
                </a:lnTo>
                <a:close/>
              </a:path>
            </a:pathLst>
          </a:cu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642960"/>
            <a:ext cx="6540480" cy="6215040"/>
          </a:xfrm>
          <a:custGeom>
            <a:avLst/>
            <a:gdLst/>
            <a:ahLst/>
            <a:rect l="l" t="t" r="r" b="b"/>
            <a:pathLst>
              <a:path w="4120" h="3915">
                <a:moveTo>
                  <a:pt x="4115" y="0"/>
                </a:moveTo>
                <a:lnTo>
                  <a:pt x="4120" y="500"/>
                </a:lnTo>
                <a:lnTo>
                  <a:pt x="61" y="1059"/>
                </a:lnTo>
                <a:lnTo>
                  <a:pt x="61" y="1466"/>
                </a:lnTo>
                <a:lnTo>
                  <a:pt x="2419" y="3915"/>
                </a:lnTo>
                <a:lnTo>
                  <a:pt x="1830" y="3915"/>
                </a:lnTo>
                <a:lnTo>
                  <a:pt x="0" y="1449"/>
                </a:lnTo>
                <a:lnTo>
                  <a:pt x="0" y="967"/>
                </a:lnTo>
                <a:lnTo>
                  <a:pt x="4115" y="0"/>
                </a:lnTo>
                <a:close/>
              </a:path>
            </a:pathLst>
          </a:custGeom>
          <a:solidFill>
            <a:srgbClr val="18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85880" y="-17640"/>
            <a:ext cx="6558120" cy="6875640"/>
          </a:xfrm>
          <a:custGeom>
            <a:avLst/>
            <a:gdLst/>
            <a:ahLst/>
            <a:rect l="l" t="t" r="r" b="b"/>
            <a:pathLst>
              <a:path w="4131" h="4348">
                <a:moveTo>
                  <a:pt x="4131" y="0"/>
                </a:moveTo>
                <a:lnTo>
                  <a:pt x="4126" y="494"/>
                </a:lnTo>
                <a:lnTo>
                  <a:pt x="55" y="1404"/>
                </a:lnTo>
                <a:lnTo>
                  <a:pt x="55" y="1853"/>
                </a:lnTo>
                <a:lnTo>
                  <a:pt x="3156" y="4348"/>
                </a:lnTo>
                <a:lnTo>
                  <a:pt x="2067" y="4348"/>
                </a:lnTo>
                <a:lnTo>
                  <a:pt x="0" y="1882"/>
                </a:lnTo>
                <a:lnTo>
                  <a:pt x="0" y="1355"/>
                </a:lnTo>
                <a:lnTo>
                  <a:pt x="3615" y="0"/>
                </a:lnTo>
                <a:lnTo>
                  <a:pt x="4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-27000"/>
            <a:ext cx="5761080" cy="2087640"/>
          </a:xfrm>
          <a:custGeom>
            <a:avLst/>
            <a:gdLst/>
            <a:ahLst/>
            <a:rect l="l" t="t" r="r" b="b"/>
            <a:pathLst>
              <a:path w="3629" h="1315">
                <a:moveTo>
                  <a:pt x="0" y="1315"/>
                </a:moveTo>
                <a:lnTo>
                  <a:pt x="2858" y="0"/>
                </a:lnTo>
                <a:lnTo>
                  <a:pt x="3629" y="0"/>
                </a:lnTo>
                <a:lnTo>
                  <a:pt x="0" y="131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924280"/>
            <a:ext cx="3384360" cy="3944880"/>
          </a:xfrm>
          <a:custGeom>
            <a:avLst/>
            <a:gdLst/>
            <a:ahLst/>
            <a:rect l="l" t="t" r="r" b="b"/>
            <a:pathLst>
              <a:path w="2132" h="2495">
                <a:moveTo>
                  <a:pt x="0" y="0"/>
                </a:moveTo>
                <a:lnTo>
                  <a:pt x="2132" y="2495"/>
                </a:lnTo>
                <a:lnTo>
                  <a:pt x="1814" y="2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9080" y="181080"/>
            <a:ext cx="2262240" cy="1914480"/>
          </a:xfrm>
          <a:custGeom>
            <a:avLst/>
            <a:gdLst/>
            <a:ahLst/>
            <a:rect l="l" t="t" r="r" b="b"/>
            <a:pathLst>
              <a:path w="1425" h="1206">
                <a:moveTo>
                  <a:pt x="1425" y="1206"/>
                </a:moveTo>
                <a:lnTo>
                  <a:pt x="0" y="0"/>
                </a:lnTo>
                <a:lnTo>
                  <a:pt x="0" y="186"/>
                </a:lnTo>
                <a:lnTo>
                  <a:pt x="1425" y="1206"/>
                </a:ln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2600" y="3105000"/>
            <a:ext cx="2327040" cy="3762360"/>
          </a:xfrm>
          <a:custGeom>
            <a:avLst/>
            <a:gdLst/>
            <a:ahLst/>
            <a:rect l="l" t="t" r="r" b="b"/>
            <a:pathLst>
              <a:path w="1466" h="2370">
                <a:moveTo>
                  <a:pt x="0" y="2248"/>
                </a:moveTo>
                <a:lnTo>
                  <a:pt x="1466" y="0"/>
                </a:lnTo>
                <a:lnTo>
                  <a:pt x="194" y="2370"/>
                </a:lnTo>
                <a:lnTo>
                  <a:pt x="4" y="2364"/>
                </a:lnTo>
                <a:lnTo>
                  <a:pt x="0" y="2248"/>
                </a:lnTo>
                <a:close/>
              </a:path>
            </a:pathLst>
          </a:custGeom>
          <a:solidFill>
            <a:srgbClr val="f93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360" y="1403280"/>
            <a:ext cx="2317680" cy="5265720"/>
          </a:xfrm>
          <a:custGeom>
            <a:avLst/>
            <a:gdLst/>
            <a:ahLst/>
            <a:rect l="l" t="t" r="r" b="b"/>
            <a:pathLst>
              <a:path w="1460" h="3317">
                <a:moveTo>
                  <a:pt x="6" y="0"/>
                </a:moveTo>
                <a:lnTo>
                  <a:pt x="6" y="643"/>
                </a:lnTo>
                <a:lnTo>
                  <a:pt x="1410" y="564"/>
                </a:lnTo>
                <a:lnTo>
                  <a:pt x="1410" y="1049"/>
                </a:lnTo>
                <a:lnTo>
                  <a:pt x="0" y="2852"/>
                </a:lnTo>
                <a:lnTo>
                  <a:pt x="0" y="3317"/>
                </a:lnTo>
                <a:lnTo>
                  <a:pt x="1460" y="1062"/>
                </a:lnTo>
                <a:lnTo>
                  <a:pt x="1460" y="505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-19080"/>
            <a:ext cx="9153000" cy="6886080"/>
            <a:chOff x="0" y="-19080"/>
            <a:chExt cx="9153000" cy="68860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-19080"/>
              <a:ext cx="9153000" cy="68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36600" y="716040"/>
              <a:ext cx="8476200" cy="54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141800" y="4041720"/>
            <a:ext cx="415800" cy="416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85680" y="378792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69360" y="547704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f00"/>
                </a:solidFill>
                <a:latin typeface="Arial Black"/>
                <a:ea typeface="宋体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4000" y="578160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D41-3891-493B-B59E-A6E54C9EA0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1280" y="722160"/>
            <a:ext cx="847872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6000" y="2852280"/>
            <a:ext cx="8928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：教师智慧的话语方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5300640"/>
            <a:ext cx="2293920" cy="79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27640" y="400536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育叙事的本质及应用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19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连云港外国语学校科研处      焦卫国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认识误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31840" y="5543640"/>
            <a:ext cx="1041480" cy="1098720"/>
            <a:chOff x="1131840" y="5543640"/>
            <a:chExt cx="1041480" cy="109872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1131840" y="554364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131840" y="554364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6fb9d7"/>
                </a:gs>
                <a:gs pos="50000">
                  <a:srgbClr val="ddeef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203120" y="6275520"/>
              <a:ext cx="917640" cy="366840"/>
              <a:chOff x="1203120" y="6275520"/>
              <a:chExt cx="917640" cy="3668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1363680" y="6275520"/>
                <a:ext cx="757080" cy="346320"/>
                <a:chOff x="1363680" y="6275520"/>
                <a:chExt cx="757080" cy="346320"/>
              </a:xfrm>
            </p:grpSpPr>
            <p:sp>
              <p:nvSpPr>
                <p:cNvPr id="262" name=""/>
                <p:cNvSpPr/>
                <p:nvPr/>
              </p:nvSpPr>
              <p:spPr>
                <a:xfrm flipH="1" flipV="1" rot="3964800">
                  <a:off x="1774080" y="617400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4780200">
                  <a:off x="1688400" y="620712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5076000">
                  <a:off x="1636200" y="6213240"/>
                  <a:ext cx="1360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5608200">
                  <a:off x="1573200" y="622008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203120" y="6279120"/>
                <a:ext cx="755280" cy="363240"/>
                <a:chOff x="1203120" y="6279120"/>
                <a:chExt cx="755280" cy="363240"/>
              </a:xfrm>
            </p:grpSpPr>
            <p:sp>
              <p:nvSpPr>
                <p:cNvPr id="267" name=""/>
                <p:cNvSpPr/>
                <p:nvPr/>
              </p:nvSpPr>
              <p:spPr>
                <a:xfrm flipH="1" flipV="1" rot="5318400">
                  <a:off x="1614240" y="622008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6133800">
                  <a:off x="1522440" y="621900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6429600">
                  <a:off x="1471680" y="620496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 rot="6961800">
                  <a:off x="1411200" y="6186240"/>
                  <a:ext cx="1360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" name=""/>
          <p:cNvGrpSpPr/>
          <p:nvPr/>
        </p:nvGrpSpPr>
        <p:grpSpPr>
          <a:xfrm>
            <a:off x="3095640" y="5535720"/>
            <a:ext cx="1041480" cy="1098720"/>
            <a:chOff x="3095640" y="5535720"/>
            <a:chExt cx="1041480" cy="109872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095640" y="553572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095640" y="553572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b3dc27"/>
                </a:gs>
                <a:gs pos="50000">
                  <a:srgbClr val="edf6cd"/>
                </a:gs>
                <a:gs pos="100000">
                  <a:srgbClr val="b3d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166920" y="6267600"/>
              <a:ext cx="917280" cy="366840"/>
              <a:chOff x="3166920" y="6267600"/>
              <a:chExt cx="917280" cy="366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3327480" y="6267600"/>
                <a:ext cx="756720" cy="346320"/>
                <a:chOff x="3327480" y="6267600"/>
                <a:chExt cx="756720" cy="346320"/>
              </a:xfrm>
            </p:grpSpPr>
            <p:sp>
              <p:nvSpPr>
                <p:cNvPr id="276" name=""/>
                <p:cNvSpPr/>
                <p:nvPr/>
              </p:nvSpPr>
              <p:spPr>
                <a:xfrm flipH="1" flipV="1" rot="3964800">
                  <a:off x="3737160" y="616608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 rot="4780200">
                  <a:off x="3652200" y="619920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5076000">
                  <a:off x="3600000" y="6205680"/>
                  <a:ext cx="1360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 rot="5608200">
                  <a:off x="3537000" y="621180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166920" y="6271200"/>
                <a:ext cx="754920" cy="363240"/>
                <a:chOff x="3166920" y="6271200"/>
                <a:chExt cx="754920" cy="363240"/>
              </a:xfrm>
            </p:grpSpPr>
            <p:sp>
              <p:nvSpPr>
                <p:cNvPr id="281" name=""/>
                <p:cNvSpPr/>
                <p:nvPr/>
              </p:nvSpPr>
              <p:spPr>
                <a:xfrm flipH="1" flipV="1" rot="5318400">
                  <a:off x="3577320" y="621252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 rot="6133800">
                  <a:off x="3485880" y="62107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 rot="6429600">
                  <a:off x="3435840" y="61970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flipV="1" rot="6961800">
                  <a:off x="3374640" y="617796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5" name=""/>
          <p:cNvGrpSpPr/>
          <p:nvPr/>
        </p:nvGrpSpPr>
        <p:grpSpPr>
          <a:xfrm>
            <a:off x="5033880" y="5546880"/>
            <a:ext cx="1041480" cy="1099080"/>
            <a:chOff x="5033880" y="5546880"/>
            <a:chExt cx="1041480" cy="109908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5033880" y="55468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033880" y="55468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f93d17"/>
                </a:gs>
                <a:gs pos="50000">
                  <a:srgbClr val="fcd2ca"/>
                </a:gs>
                <a:gs pos="100000">
                  <a:srgbClr val="f93d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104800" y="6277320"/>
              <a:ext cx="917640" cy="368640"/>
              <a:chOff x="5104800" y="6277320"/>
              <a:chExt cx="917640" cy="3686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5265720" y="6277320"/>
                <a:ext cx="756720" cy="348120"/>
                <a:chOff x="5265720" y="6277320"/>
                <a:chExt cx="756720" cy="34812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3964800">
                  <a:off x="5674680" y="61765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4780200">
                  <a:off x="5590080" y="62096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5076000">
                  <a:off x="5537520" y="62161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5608200">
                  <a:off x="5474160" y="62218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104800" y="6281280"/>
                <a:ext cx="755280" cy="364680"/>
                <a:chOff x="5104800" y="6281280"/>
                <a:chExt cx="755280" cy="36468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5318400">
                  <a:off x="5514840" y="62229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6133800">
                  <a:off x="5423760" y="62215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6429600">
                  <a:off x="5372640" y="6207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6961800">
                  <a:off x="5312520" y="61884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"/>
          <p:cNvGrpSpPr/>
          <p:nvPr/>
        </p:nvGrpSpPr>
        <p:grpSpPr>
          <a:xfrm>
            <a:off x="6996240" y="5538960"/>
            <a:ext cx="1041120" cy="1099080"/>
            <a:chOff x="6996240" y="5538960"/>
            <a:chExt cx="1041120" cy="1099080"/>
          </a:xfrm>
        </p:grpSpPr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6996240" y="55389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996240" y="55389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ff7f00"/>
                </a:gs>
                <a:gs pos="50000">
                  <a:srgbClr val="fee1c5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7066800" y="6269400"/>
              <a:ext cx="917640" cy="368640"/>
              <a:chOff x="7066800" y="6269400"/>
              <a:chExt cx="917640" cy="3686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7227720" y="6269400"/>
                <a:ext cx="756720" cy="348120"/>
                <a:chOff x="7227720" y="6269400"/>
                <a:chExt cx="756720" cy="34812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flipV="1" rot="3964800">
                  <a:off x="7636680" y="61686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4780200">
                  <a:off x="7552080" y="62017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5076000">
                  <a:off x="7499520" y="62082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5608200">
                  <a:off x="7436160" y="62139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066800" y="6273360"/>
                <a:ext cx="755280" cy="364680"/>
                <a:chOff x="7066800" y="6273360"/>
                <a:chExt cx="755280" cy="364680"/>
              </a:xfrm>
            </p:grpSpPr>
            <p:sp>
              <p:nvSpPr>
                <p:cNvPr id="309" name=""/>
                <p:cNvSpPr/>
                <p:nvPr/>
              </p:nvSpPr>
              <p:spPr>
                <a:xfrm flipH="1" flipV="1" rot="5318400">
                  <a:off x="7476840" y="62150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 rot="6133800">
                  <a:off x="7385760" y="62136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6429600">
                  <a:off x="7334640" y="61995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6961800">
                  <a:off x="7274520" y="6180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3" name=""/>
          <p:cNvSpPr/>
          <p:nvPr/>
        </p:nvSpPr>
        <p:spPr>
          <a:xfrm>
            <a:off x="1128600" y="5805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华文隶书"/>
              </a:rPr>
              <a:t>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84480" y="5805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华文隶书"/>
              </a:rPr>
              <a:t>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51280" y="580536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华文隶书"/>
                <a:ea typeface="华文隶书"/>
              </a:rPr>
              <a:t>再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94560" y="580536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华文隶书"/>
              </a:rPr>
              <a:t>再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1239840" y="55548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216240" y="55450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5149800" y="55641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112160" y="55548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38400" y="1630440"/>
            <a:ext cx="633708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38400" y="1054080"/>
            <a:ext cx="5062320" cy="492120"/>
            <a:chOff x="1238400" y="1054080"/>
            <a:chExt cx="5062320" cy="492120"/>
          </a:xfrm>
        </p:grpSpPr>
        <p:sp>
          <p:nvSpPr>
            <p:cNvPr id="323" name=""/>
            <p:cNvSpPr/>
            <p:nvPr/>
          </p:nvSpPr>
          <p:spPr>
            <a:xfrm>
              <a:off x="1238400" y="1054080"/>
              <a:ext cx="5062320" cy="492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250640" y="1069200"/>
              <a:ext cx="5043600" cy="454680"/>
              <a:chOff x="1250640" y="1069200"/>
              <a:chExt cx="5043600" cy="454680"/>
            </a:xfrm>
          </p:grpSpPr>
          <p:sp>
            <p:nvSpPr>
              <p:cNvPr id="325" name=""/>
              <p:cNvSpPr/>
              <p:nvPr/>
            </p:nvSpPr>
            <p:spPr>
              <a:xfrm>
                <a:off x="1250640" y="1406160"/>
                <a:ext cx="5043600" cy="11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d9e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50640" y="1069200"/>
                <a:ext cx="5043600" cy="11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1116000" y="1038240"/>
            <a:ext cx="516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一）教育叙事不等于教学实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8400" y="1628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学实录是有闻必录，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再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育叙事是根据主题有选择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夹叙夹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观察与思考生活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38400" y="3645000"/>
            <a:ext cx="633708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38400" y="3068640"/>
            <a:ext cx="5061960" cy="502920"/>
            <a:chOff x="1238400" y="3068640"/>
            <a:chExt cx="5061960" cy="502920"/>
          </a:xfrm>
        </p:grpSpPr>
        <p:sp>
          <p:nvSpPr>
            <p:cNvPr id="331" name=""/>
            <p:cNvSpPr/>
            <p:nvPr/>
          </p:nvSpPr>
          <p:spPr>
            <a:xfrm>
              <a:off x="1238400" y="3068640"/>
              <a:ext cx="5061960" cy="502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00"/>
                </a:gs>
                <a:gs pos="50000">
                  <a:srgbClr val="ea7400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250280" y="3084120"/>
              <a:ext cx="5043240" cy="465120"/>
              <a:chOff x="1250280" y="3084120"/>
              <a:chExt cx="5043240" cy="465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250280" y="3428280"/>
                <a:ext cx="5043240" cy="12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00">
                      <a:alpha val="0"/>
                    </a:srgbClr>
                  </a:gs>
                  <a:gs pos="100000">
                    <a:srgbClr val="fee4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50280" y="3084120"/>
                <a:ext cx="5043240" cy="12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e1c5"/>
                  </a:gs>
                  <a:gs pos="100000">
                    <a:srgbClr val="ff7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2113200" y="3068640"/>
            <a:ext cx="316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二）教育叙事不等于教学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38400" y="364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叶澜教授语：“一个教师写一辈子教案不一定成为名师，但如果一个教师写三年反思则可能成为名师。”教学反思是一种批判性的思维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24240" y="6036840"/>
            <a:ext cx="407520" cy="72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68960" y="6036840"/>
            <a:ext cx="407520" cy="72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84960" y="6036840"/>
            <a:ext cx="407520" cy="72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92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192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192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192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92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192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192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192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92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192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192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192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92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192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192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192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认识误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1268280"/>
            <a:ext cx="7462800" cy="15861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solidFill>
            <a:srgbClr val="6fb9d7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1341360"/>
            <a:ext cx="1758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隶书"/>
              </a:rPr>
              <a:t>教育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5640" y="1844640"/>
            <a:ext cx="741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也具有反思性，但其中的反思只是就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某一个行为或现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进行反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54560" y="3067920"/>
            <a:ext cx="7488360" cy="35290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5661000"/>
            <a:ext cx="17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隶书"/>
              </a:rPr>
              <a:t>教学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5640" y="3141720"/>
            <a:ext cx="74883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学反思则是对自己的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整个教学活动的过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观察、审视、诊断、自我监控，是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全方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的研究。从时间段上，教学反思可以是课前思、课中思、课后思（大多数）。教育叙事必须是事后的叙述与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认识误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347920"/>
            <a:ext cx="705672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60360" y="1357200"/>
            <a:ext cx="5183280" cy="492120"/>
            <a:chOff x="1260360" y="1357200"/>
            <a:chExt cx="5183280" cy="492120"/>
          </a:xfrm>
        </p:grpSpPr>
        <p:sp>
          <p:nvSpPr>
            <p:cNvPr id="350" name=""/>
            <p:cNvSpPr/>
            <p:nvPr/>
          </p:nvSpPr>
          <p:spPr>
            <a:xfrm>
              <a:off x="1260360" y="1357200"/>
              <a:ext cx="5183280" cy="492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272960" y="1372320"/>
              <a:ext cx="5164200" cy="454680"/>
              <a:chOff x="1272960" y="1372320"/>
              <a:chExt cx="5164200" cy="454680"/>
            </a:xfrm>
          </p:grpSpPr>
          <p:sp>
            <p:nvSpPr>
              <p:cNvPr id="352" name=""/>
              <p:cNvSpPr/>
              <p:nvPr/>
            </p:nvSpPr>
            <p:spPr>
              <a:xfrm>
                <a:off x="1272960" y="1709280"/>
                <a:ext cx="5164200" cy="11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d9e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72960" y="1372320"/>
                <a:ext cx="5164200" cy="11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1209600" y="1341360"/>
            <a:ext cx="5162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三）教育叙事不等于教学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249228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学案例一般含背景、案例事件、案例分析与启示、案例问题的解决几部分内容，教师要直接对时间进行多层面、多角度的分析，要在基于事件本身的基础上，进行一些普遍意义上的理性反思。相对而言，教育叙事中的反思则可以感性化一些，甚至抒情化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640" y="198000"/>
            <a:ext cx="630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认识误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564000" y="3100320"/>
            <a:ext cx="2344680" cy="2344680"/>
            <a:chOff x="3564000" y="3100320"/>
            <a:chExt cx="2344680" cy="2344680"/>
          </a:xfrm>
        </p:grpSpPr>
        <p:sp>
          <p:nvSpPr>
            <p:cNvPr id="358" name="_s1032"/>
            <p:cNvSpPr/>
            <p:nvPr/>
          </p:nvSpPr>
          <p:spPr>
            <a:xfrm>
              <a:off x="3564000" y="3100320"/>
              <a:ext cx="2344680" cy="2344680"/>
            </a:xfrm>
            <a:prstGeom prst="ellipse">
              <a:avLst/>
            </a:prstGeom>
            <a:solidFill>
              <a:srgbClr val="f93d17">
                <a:alpha val="70000"/>
              </a:srgbClr>
            </a:solidFill>
            <a:ln w="4680">
              <a:solidFill>
                <a:srgbClr val="f93d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51240" y="3713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隶书"/>
                  <a:ea typeface="华文隶书"/>
                </a:rPr>
                <a:t>教育叙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82960" y="3789360"/>
            <a:ext cx="2344680" cy="2344680"/>
            <a:chOff x="2082960" y="3789360"/>
            <a:chExt cx="2344680" cy="2344680"/>
          </a:xfrm>
        </p:grpSpPr>
        <p:sp>
          <p:nvSpPr>
            <p:cNvPr id="361" name="_s1028"/>
            <p:cNvSpPr/>
            <p:nvPr/>
          </p:nvSpPr>
          <p:spPr>
            <a:xfrm>
              <a:off x="2082960" y="3789360"/>
              <a:ext cx="2344680" cy="2344680"/>
            </a:xfrm>
            <a:prstGeom prst="ellipse">
              <a:avLst/>
            </a:prstGeom>
            <a:solidFill>
              <a:srgbClr val="ff7f00">
                <a:alpha val="70000"/>
              </a:srgbClr>
            </a:solidFill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57160" y="50133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华文隶书"/>
                  <a:ea typeface="华文隶书"/>
                </a:rPr>
                <a:t>教学反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076720" y="3860640"/>
            <a:ext cx="2344680" cy="2345040"/>
            <a:chOff x="5076720" y="3860640"/>
            <a:chExt cx="2344680" cy="2345040"/>
          </a:xfrm>
        </p:grpSpPr>
        <p:sp>
          <p:nvSpPr>
            <p:cNvPr id="364" name="_s1030"/>
            <p:cNvSpPr/>
            <p:nvPr/>
          </p:nvSpPr>
          <p:spPr>
            <a:xfrm>
              <a:off x="5076720" y="3860640"/>
              <a:ext cx="2344680" cy="2345040"/>
            </a:xfrm>
            <a:prstGeom prst="ellipse">
              <a:avLst/>
            </a:prstGeom>
            <a:solidFill>
              <a:srgbClr val="6fb9d7">
                <a:alpha val="70000"/>
              </a:srgbClr>
            </a:solidFill>
            <a:ln w="4680">
              <a:solidFill>
                <a:srgbClr val="6fb9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0880" y="5010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华文隶书"/>
                  <a:ea typeface="华文隶书"/>
                </a:rPr>
                <a:t>教学实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95680" y="1300320"/>
            <a:ext cx="2344680" cy="2344680"/>
            <a:chOff x="3595680" y="1300320"/>
            <a:chExt cx="2344680" cy="2344680"/>
          </a:xfrm>
        </p:grpSpPr>
        <p:sp>
          <p:nvSpPr>
            <p:cNvPr id="367" name="_s1028"/>
            <p:cNvSpPr/>
            <p:nvPr/>
          </p:nvSpPr>
          <p:spPr>
            <a:xfrm>
              <a:off x="3595680" y="1300320"/>
              <a:ext cx="2344680" cy="2344680"/>
            </a:xfrm>
            <a:prstGeom prst="ellipse">
              <a:avLst/>
            </a:prstGeom>
            <a:solidFill>
              <a:srgbClr val="b3dc27">
                <a:alpha val="70000"/>
              </a:srgbClr>
            </a:solidFill>
            <a:ln w="4680">
              <a:solidFill>
                <a:srgbClr val="b3d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41520" y="21286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000"/>
                  </a:solidFill>
                  <a:latin typeface="华文隶书"/>
                  <a:ea typeface="华文隶书"/>
                </a:rPr>
                <a:t>教学案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rot="3717000">
            <a:off x="3692880" y="4412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反思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7855400">
            <a:off x="5207760" y="4412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情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4720" y="3014640"/>
            <a:ext cx="127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情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反思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2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2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2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70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2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2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2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10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2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2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2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2880" y="475920"/>
            <a:ext cx="3381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作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1989000"/>
            <a:ext cx="8496000" cy="453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1125360"/>
            <a:ext cx="7561080" cy="574560"/>
            <a:chOff x="826920" y="1125360"/>
            <a:chExt cx="7561080" cy="574560"/>
          </a:xfrm>
        </p:grpSpPr>
        <p:sp>
          <p:nvSpPr>
            <p:cNvPr id="375" name=""/>
            <p:cNvSpPr/>
            <p:nvPr/>
          </p:nvSpPr>
          <p:spPr>
            <a:xfrm>
              <a:off x="826920" y="1125360"/>
              <a:ext cx="7561080" cy="574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00"/>
                </a:gs>
                <a:gs pos="50000">
                  <a:srgbClr val="ea7400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844920" y="1143000"/>
              <a:ext cx="7532640" cy="531360"/>
              <a:chOff x="844920" y="1143000"/>
              <a:chExt cx="7532640" cy="531360"/>
            </a:xfrm>
          </p:grpSpPr>
          <p:sp>
            <p:nvSpPr>
              <p:cNvPr id="377" name=""/>
              <p:cNvSpPr/>
              <p:nvPr/>
            </p:nvSpPr>
            <p:spPr>
              <a:xfrm>
                <a:off x="844920" y="1536120"/>
                <a:ext cx="75326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00">
                      <a:alpha val="0"/>
                    </a:srgbClr>
                  </a:gs>
                  <a:gs pos="100000">
                    <a:srgbClr val="fee4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4920" y="1143000"/>
                <a:ext cx="75326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e1c5"/>
                  </a:gs>
                  <a:gs pos="100000">
                    <a:srgbClr val="ff7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2215800" y="1125360"/>
            <a:ext cx="466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一）教育叙事是记录教师教学成长的重要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1989000"/>
            <a:ext cx="8424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苏霍姆林斯基曾经这样论述教育日记（可以看作教育叙事）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我建议每一位教师都来写教育日记。教育日记并不是什么对它提出某些格式要求的官方文献，而是一种个人的随笔记录，在日常工作中就可以记。这些记录是思考和创造的源泉。那种连续记了十年、二十年甚至三十年的教师日记，是一笔巨大的财富。每一位勤于思考的教师，都有他自己的体系、自己的教育学修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2880" y="475920"/>
            <a:ext cx="3381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作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38200" y="1125360"/>
            <a:ext cx="8064000" cy="574920"/>
            <a:chOff x="538200" y="1125360"/>
            <a:chExt cx="8064000" cy="574920"/>
          </a:xfrm>
        </p:grpSpPr>
        <p:sp>
          <p:nvSpPr>
            <p:cNvPr id="383" name=""/>
            <p:cNvSpPr/>
            <p:nvPr/>
          </p:nvSpPr>
          <p:spPr>
            <a:xfrm>
              <a:off x="538200" y="1125360"/>
              <a:ext cx="8064000" cy="574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3dc27"/>
                </a:gs>
                <a:gs pos="50000">
                  <a:srgbClr val="a4c923"/>
                </a:gs>
                <a:gs pos="100000">
                  <a:srgbClr val="b3d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58000" y="1143000"/>
              <a:ext cx="8034120" cy="531360"/>
              <a:chOff x="558000" y="1143000"/>
              <a:chExt cx="8034120" cy="531360"/>
            </a:xfrm>
          </p:grpSpPr>
          <p:sp>
            <p:nvSpPr>
              <p:cNvPr id="385" name=""/>
              <p:cNvSpPr/>
              <p:nvPr/>
            </p:nvSpPr>
            <p:spPr>
              <a:xfrm>
                <a:off x="558000" y="1536840"/>
                <a:ext cx="8034120" cy="13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dc27">
                      <a:alpha val="0"/>
                    </a:srgbClr>
                  </a:gs>
                  <a:gs pos="100000">
                    <a:srgbClr val="eff7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8000" y="1143000"/>
                <a:ext cx="803412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f8dc"/>
                  </a:gs>
                  <a:gs pos="100000">
                    <a:srgbClr val="b3dc2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1648080" y="1125360"/>
            <a:ext cx="423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二）教育叙事是进行教学反思的重要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2709720"/>
            <a:ext cx="8353440" cy="36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8200" y="1917720"/>
            <a:ext cx="8065800" cy="574560"/>
            <a:chOff x="538200" y="1917720"/>
            <a:chExt cx="8065800" cy="574560"/>
          </a:xfrm>
        </p:grpSpPr>
        <p:sp>
          <p:nvSpPr>
            <p:cNvPr id="390" name=""/>
            <p:cNvSpPr/>
            <p:nvPr/>
          </p:nvSpPr>
          <p:spPr>
            <a:xfrm>
              <a:off x="538200" y="1917720"/>
              <a:ext cx="8065800" cy="574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558000" y="1935360"/>
              <a:ext cx="8035920" cy="531000"/>
              <a:chOff x="558000" y="1935360"/>
              <a:chExt cx="8035920" cy="531000"/>
            </a:xfrm>
          </p:grpSpPr>
          <p:sp>
            <p:nvSpPr>
              <p:cNvPr id="392" name=""/>
              <p:cNvSpPr/>
              <p:nvPr/>
            </p:nvSpPr>
            <p:spPr>
              <a:xfrm>
                <a:off x="558000" y="2328840"/>
                <a:ext cx="8035920" cy="13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d9e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8000" y="1935360"/>
                <a:ext cx="803592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179280" y="1940040"/>
            <a:ext cx="860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三）教育叙事是教师改变日常教育活动的主要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2852640"/>
            <a:ext cx="8172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师每天都在经历着一个个的教育事件，其教育生活就是由一个个的教育事件累积而成的。教师的教育叙事过程就是在不断地回溯、发现我们过去、现在、未来的教育生活道路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师在教育叙事中对自己的教育生活的这种发现和认同，同时也是对教师人生的丰富性、价值性的发现和认同，是对教师心灵世界的丰富和充实。从这一意义上而言，教育叙事就成为教师改变日常单调和平庸的教育活动的主要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表现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9280" y="923760"/>
            <a:ext cx="5895720" cy="151308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11480" y="2508120"/>
            <a:ext cx="5853240" cy="107316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98880" y="3660840"/>
            <a:ext cx="5852880" cy="293688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13080" y="99684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（慧眼取舍）课堂中的一个重点环节、教材处理、突发事件、备课评课中的争议分歧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89320" y="2573280"/>
            <a:ext cx="55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（德育叙事，管理叙事）班级活动、综合实践、社会实践等，关注“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3592440"/>
            <a:ext cx="57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教育自传”不是通常的“自传”，有“我”的教育生活叙述</a:t>
            </a:r>
            <a:r>
              <a:rPr b="1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胡适语：“我们赤裸裸地叙述我们少年时代的琐碎生活，为的是希望社会上做过一番事业的人也会赤裸裸地记载他们的生活，给史家做资料，给文学开生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9920" y="271296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77840" y="274968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3480" y="276552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教育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14640" y="1355760"/>
            <a:ext cx="1447560" cy="642960"/>
          </a:xfrm>
          <a:prstGeom prst="roundRect">
            <a:avLst>
              <a:gd name="adj" fmla="val 16667"/>
            </a:avLst>
          </a:prstGeom>
          <a:solidFill>
            <a:srgbClr val="ff7f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122560" y="139212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78200" y="14079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教学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4160" y="271764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b3dc2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062080" y="275436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917720" y="277020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生活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041560" y="438156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6fb9d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2049480" y="441792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905120" y="44337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自传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19280" y="3013200"/>
            <a:ext cx="43164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898560" y="3371760"/>
            <a:ext cx="1152360" cy="1297080"/>
            <a:chOff x="898560" y="3371760"/>
            <a:chExt cx="1152360" cy="1297080"/>
          </a:xfrm>
        </p:grpSpPr>
        <p:cxnSp>
          <p:nvCxnSpPr>
            <p:cNvPr id="417" name=""/>
            <p:cNvCxnSpPr/>
            <p:nvPr/>
          </p:nvCxnSpPr>
          <p:spPr>
            <a:xfrm flipH="1" rot="16200000">
              <a:off x="574560" y="3695400"/>
              <a:ext cx="1297440" cy="649440"/>
            </a:xfrm>
            <a:prstGeom prst="bentConnector3">
              <a:avLst>
                <a:gd name="adj1" fmla="val 99417"/>
              </a:avLst>
            </a:prstGeom>
            <a:ln w="69840">
              <a:solidFill>
                <a:srgbClr val="808080"/>
              </a:solidFill>
              <a:miter/>
            </a:ln>
          </p:spPr>
        </p:cxnSp>
        <p:sp>
          <p:nvSpPr>
            <p:cNvPr id="418" name=""/>
            <p:cNvSpPr/>
            <p:nvPr/>
          </p:nvSpPr>
          <p:spPr>
            <a:xfrm>
              <a:off x="898560" y="4668480"/>
              <a:ext cx="1152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898560" y="1715760"/>
            <a:ext cx="1225440" cy="1008360"/>
            <a:chOff x="898560" y="1715760"/>
            <a:chExt cx="1225440" cy="1008360"/>
          </a:xfrm>
        </p:grpSpPr>
        <p:cxnSp>
          <p:nvCxnSpPr>
            <p:cNvPr id="420" name=""/>
            <p:cNvCxnSpPr/>
            <p:nvPr/>
          </p:nvCxnSpPr>
          <p:spPr>
            <a:xfrm flipH="1" flipV="1" rot="5400000">
              <a:off x="739080" y="1874880"/>
              <a:ext cx="1008720" cy="690480"/>
            </a:xfrm>
            <a:prstGeom prst="bentConnector3">
              <a:avLst>
                <a:gd name="adj1" fmla="val 99428"/>
              </a:avLst>
            </a:prstGeom>
            <a:ln w="69840">
              <a:solidFill>
                <a:srgbClr val="808080"/>
              </a:solidFill>
              <a:miter/>
            </a:ln>
          </p:spPr>
        </p:cxnSp>
        <p:sp>
          <p:nvSpPr>
            <p:cNvPr id="421" name=""/>
            <p:cNvSpPr/>
            <p:nvPr/>
          </p:nvSpPr>
          <p:spPr>
            <a:xfrm>
              <a:off x="898560" y="1716120"/>
              <a:ext cx="122544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36760" y="105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从内容来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2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2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2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表现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907920"/>
            <a:ext cx="5905440" cy="79236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59280" y="1771560"/>
            <a:ext cx="5905440" cy="64764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98880" y="2505240"/>
            <a:ext cx="5852880" cy="93636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0" y="83664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夹叙夹议、叙议交叉、层层深入，叙述式文本是教育叙事研究报告写作最基本的写作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56000" y="18795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作者在反思中提高认识、读者在反思中受到启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49084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用叙述的笔法，客观地描写自己的教育教学过程，不多加评论。让读者自己从客观陈述的事实中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出判断、得出结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9920" y="314496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77840" y="318132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3480" y="31971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教育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44800" y="979560"/>
            <a:ext cx="1447560" cy="642960"/>
          </a:xfrm>
          <a:prstGeom prst="roundRect">
            <a:avLst>
              <a:gd name="adj" fmla="val 16667"/>
            </a:avLst>
          </a:prstGeom>
          <a:solidFill>
            <a:srgbClr val="ff7f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052720" y="101592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08000" y="10317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叙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54160" y="176364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b3dc2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2062080" y="180036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2124000" y="1843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反思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41560" y="263520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6fb9d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049480" y="267192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905120" y="26877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陈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08240" y="3508200"/>
            <a:ext cx="5853240" cy="93528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19640" y="357336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将几种教育现象放在一起比较以得到启发，有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己与自己的纵向比较，有自己与别人的横向比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08240" y="5589720"/>
            <a:ext cx="5853240" cy="93492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0" y="55897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阅读别人撰写的叙事研究报告后，对文本中某些观点或情节提出不同的一件或看法，与作者进行商榷或讨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0920" y="573408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2058840" y="577044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900000" y="2060640"/>
            <a:ext cx="1150920" cy="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2924280"/>
            <a:ext cx="1150920" cy="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50920" y="363996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18918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>
            <a:off x="2058840" y="367668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338920" y="369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比较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08240" y="4513320"/>
            <a:ext cx="5853240" cy="100800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86080" y="450864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华文隶书"/>
                <a:ea typeface="华文隶书"/>
              </a:rPr>
              <a:t>在叙事研究报告中、请他人对其中某些环节或某些细节进行点评，引起读者注意、思考、共鸣，可以分评、总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050920" y="465300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2058840" y="4689360"/>
            <a:ext cx="1401840" cy="203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33892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点评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8920" y="578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质疑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00000" y="3787920"/>
            <a:ext cx="1150920" cy="217440"/>
            <a:chOff x="900000" y="3787920"/>
            <a:chExt cx="1150920" cy="217440"/>
          </a:xfrm>
        </p:grpSpPr>
        <p:sp>
          <p:nvSpPr>
            <p:cNvPr id="460" name=""/>
            <p:cNvSpPr/>
            <p:nvPr/>
          </p:nvSpPr>
          <p:spPr>
            <a:xfrm>
              <a:off x="900000" y="4005360"/>
              <a:ext cx="1150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900000" y="3787920"/>
              <a:ext cx="0" cy="217440"/>
            </a:xfrm>
            <a:prstGeom prst="line">
              <a:avLst/>
            </a:prstGeom>
            <a:ln w="69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00000" y="1268280"/>
            <a:ext cx="1150920" cy="1873440"/>
            <a:chOff x="900000" y="1268280"/>
            <a:chExt cx="1150920" cy="1873440"/>
          </a:xfrm>
        </p:grpSpPr>
        <p:sp>
          <p:nvSpPr>
            <p:cNvPr id="463" name=""/>
            <p:cNvSpPr/>
            <p:nvPr/>
          </p:nvSpPr>
          <p:spPr>
            <a:xfrm>
              <a:off x="900000" y="1268280"/>
              <a:ext cx="1150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900000" y="1268280"/>
              <a:ext cx="0" cy="1873440"/>
            </a:xfrm>
            <a:prstGeom prst="line">
              <a:avLst/>
            </a:prstGeom>
            <a:ln w="69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4160" y="7030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从写作文本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00000" y="4076640"/>
            <a:ext cx="1150920" cy="936720"/>
            <a:chOff x="900000" y="4076640"/>
            <a:chExt cx="1150920" cy="936720"/>
          </a:xfrm>
        </p:grpSpPr>
        <p:sp>
          <p:nvSpPr>
            <p:cNvPr id="467" name=""/>
            <p:cNvSpPr/>
            <p:nvPr/>
          </p:nvSpPr>
          <p:spPr>
            <a:xfrm>
              <a:off x="900000" y="5008680"/>
              <a:ext cx="1150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900000" y="4076640"/>
              <a:ext cx="0" cy="936720"/>
            </a:xfrm>
            <a:prstGeom prst="line">
              <a:avLst/>
            </a:prstGeom>
            <a:ln w="69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00000" y="5084640"/>
            <a:ext cx="1150920" cy="936720"/>
            <a:chOff x="900000" y="5084640"/>
            <a:chExt cx="1150920" cy="936720"/>
          </a:xfrm>
        </p:grpSpPr>
        <p:sp>
          <p:nvSpPr>
            <p:cNvPr id="470" name=""/>
            <p:cNvSpPr/>
            <p:nvPr/>
          </p:nvSpPr>
          <p:spPr>
            <a:xfrm>
              <a:off x="900000" y="6021360"/>
              <a:ext cx="115092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00000" y="5084640"/>
              <a:ext cx="0" cy="936720"/>
            </a:xfrm>
            <a:prstGeom prst="line">
              <a:avLst/>
            </a:prstGeom>
            <a:ln w="69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500"/>
                            </p:stCondLst>
                            <p:childTnLst>
                              <p:par>
                                <p:cTn id="9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000"/>
                            </p:stCondLst>
                            <p:childTnLst>
                              <p:par>
                                <p:cTn id="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表现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0800" y="3218040"/>
            <a:ext cx="1447920" cy="6426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629080" y="3254400"/>
            <a:ext cx="1401480" cy="2030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484360" y="327024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教育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94240" y="249228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ff7f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502160" y="252900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357800" y="254484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个体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94240" y="3938760"/>
            <a:ext cx="1447920" cy="642600"/>
          </a:xfrm>
          <a:prstGeom prst="roundRect">
            <a:avLst>
              <a:gd name="adj" fmla="val 16667"/>
            </a:avLst>
          </a:prstGeom>
          <a:solidFill>
            <a:srgbClr val="b3dc2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502160" y="397512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357800" y="39909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群体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91000" y="2492280"/>
            <a:ext cx="1447920" cy="642960"/>
          </a:xfrm>
          <a:prstGeom prst="roundRect">
            <a:avLst>
              <a:gd name="adj" fmla="val 16667"/>
            </a:avLst>
          </a:prstGeom>
          <a:solidFill>
            <a:srgbClr val="6fb9d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4498920" y="2529000"/>
            <a:ext cx="1401840" cy="2030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354560" y="254484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自我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96760" y="1181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按叙事主体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92800" y="3938760"/>
            <a:ext cx="1447560" cy="642600"/>
          </a:xfrm>
          <a:prstGeom prst="roundRect">
            <a:avLst>
              <a:gd name="adj" fmla="val 16667"/>
            </a:avLst>
          </a:prstGeom>
          <a:solidFill>
            <a:srgbClr val="ff7f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4500720" y="3975120"/>
            <a:ext cx="1401480" cy="203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356000" y="39909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他者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063680" y="2916000"/>
            <a:ext cx="305280" cy="305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63680" y="3852720"/>
            <a:ext cx="305280" cy="305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表现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96760" y="1181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按教师行为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69920" y="3218040"/>
            <a:ext cx="1447920" cy="6426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978200" y="3254400"/>
            <a:ext cx="1401480" cy="2030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833480" y="327024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教育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492800" y="1849320"/>
            <a:ext cx="1447560" cy="642960"/>
          </a:xfrm>
          <a:prstGeom prst="roundRect">
            <a:avLst>
              <a:gd name="adj" fmla="val 16667"/>
            </a:avLst>
          </a:prstGeom>
          <a:solidFill>
            <a:srgbClr val="ff7f00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4500720" y="1886040"/>
            <a:ext cx="1401480" cy="203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356000" y="190188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生活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13520" y="3213000"/>
            <a:ext cx="1447560" cy="642960"/>
          </a:xfrm>
          <a:prstGeom prst="roundRect">
            <a:avLst>
              <a:gd name="adj" fmla="val 16667"/>
            </a:avLst>
          </a:prstGeom>
          <a:solidFill>
            <a:srgbClr val="b3dc2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5221440" y="3249720"/>
            <a:ext cx="1401480" cy="2030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5076720" y="32655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思想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92800" y="4653000"/>
            <a:ext cx="1447560" cy="642960"/>
          </a:xfrm>
          <a:prstGeom prst="roundRect">
            <a:avLst>
              <a:gd name="adj" fmla="val 16667"/>
            </a:avLst>
          </a:prstGeom>
          <a:solidFill>
            <a:srgbClr val="6fb9d7"/>
          </a:solid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4500720" y="4689360"/>
            <a:ext cx="1401480" cy="2034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4356000" y="47005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华文隶书"/>
              </a:rPr>
              <a:t>课堂叙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419640" y="2133720"/>
            <a:ext cx="1008000" cy="10490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419640" y="3860640"/>
            <a:ext cx="1008000" cy="10810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459600" y="3527640"/>
            <a:ext cx="158364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16720" y="5300640"/>
            <a:ext cx="2293920" cy="79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40280" y="23302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央视记者柴静采访剑桥大学校长乐思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67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67280" y="393372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302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育叙事的写作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1506600"/>
            <a:ext cx="3603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528920" y="1233360"/>
            <a:ext cx="3096360" cy="490680"/>
            <a:chOff x="1528920" y="1233360"/>
            <a:chExt cx="3096360" cy="490680"/>
          </a:xfrm>
        </p:grpSpPr>
        <p:sp>
          <p:nvSpPr>
            <p:cNvPr id="511" name=""/>
            <p:cNvSpPr/>
            <p:nvPr/>
          </p:nvSpPr>
          <p:spPr>
            <a:xfrm>
              <a:off x="1528920" y="1233360"/>
              <a:ext cx="3096360" cy="49068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3440" y="1261800"/>
              <a:ext cx="2911320" cy="425160"/>
            </a:xfrm>
            <a:prstGeom prst="roundRect">
              <a:avLst>
                <a:gd name="adj" fmla="val 50000"/>
              </a:avLst>
            </a:prstGeom>
            <a:solidFill>
              <a:srgbClr val="b3dc27">
                <a:alpha val="96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43880" y="1217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问题产生的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528920" y="2909880"/>
            <a:ext cx="3096360" cy="503280"/>
            <a:chOff x="1528920" y="2909880"/>
            <a:chExt cx="3096360" cy="503280"/>
          </a:xfrm>
        </p:grpSpPr>
        <p:sp>
          <p:nvSpPr>
            <p:cNvPr id="515" name=""/>
            <p:cNvSpPr/>
            <p:nvPr/>
          </p:nvSpPr>
          <p:spPr>
            <a:xfrm>
              <a:off x="1528920" y="2909880"/>
              <a:ext cx="3096360" cy="50328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3440" y="2939040"/>
              <a:ext cx="2911320" cy="435960"/>
            </a:xfrm>
            <a:prstGeom prst="roundRect">
              <a:avLst>
                <a:gd name="adj" fmla="val 50000"/>
              </a:avLst>
            </a:prstGeom>
            <a:solidFill>
              <a:srgbClr val="ff7f00">
                <a:alpha val="96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243880" y="2909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问题情境的描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528920" y="4962600"/>
            <a:ext cx="3096360" cy="503280"/>
            <a:chOff x="1528920" y="4962600"/>
            <a:chExt cx="3096360" cy="503280"/>
          </a:xfrm>
        </p:grpSpPr>
        <p:sp>
          <p:nvSpPr>
            <p:cNvPr id="519" name=""/>
            <p:cNvSpPr/>
            <p:nvPr/>
          </p:nvSpPr>
          <p:spPr>
            <a:xfrm>
              <a:off x="1528920" y="4962600"/>
              <a:ext cx="3096360" cy="50328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3800" y="4991760"/>
              <a:ext cx="2912040" cy="435960"/>
            </a:xfrm>
            <a:prstGeom prst="roundRect">
              <a:avLst>
                <a:gd name="adj" fmla="val 50000"/>
              </a:avLst>
            </a:prstGeom>
            <a:solidFill>
              <a:srgbClr val="6fb9d7">
                <a:alpha val="96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239200" y="4948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问题解决的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68560" y="5202360"/>
            <a:ext cx="3603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168560" y="3164040"/>
            <a:ext cx="3603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3360" y="1125000"/>
            <a:ext cx="565200" cy="4391640"/>
            <a:chOff x="603360" y="1125000"/>
            <a:chExt cx="565200" cy="4391640"/>
          </a:xfrm>
        </p:grpSpPr>
        <p:sp>
          <p:nvSpPr>
            <p:cNvPr id="525" name=""/>
            <p:cNvSpPr/>
            <p:nvPr/>
          </p:nvSpPr>
          <p:spPr>
            <a:xfrm flipH="1" rot="5400000">
              <a:off x="-1309680" y="3038040"/>
              <a:ext cx="4391640" cy="56520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5400000">
              <a:off x="-1181880" y="3050640"/>
              <a:ext cx="4128840" cy="489600"/>
            </a:xfrm>
            <a:prstGeom prst="roundRect">
              <a:avLst>
                <a:gd name="adj" fmla="val 50000"/>
              </a:avLst>
            </a:prstGeom>
            <a:solidFill>
              <a:srgbClr val="3366ff">
                <a:alpha val="7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44400" y="1341360"/>
            <a:ext cx="381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育叙事的基本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19280" y="1844640"/>
            <a:ext cx="7075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00200" y="5538960"/>
            <a:ext cx="7075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38360" y="5622840"/>
            <a:ext cx="7012080" cy="416160"/>
          </a:xfrm>
          <a:prstGeom prst="rect">
            <a:avLst/>
          </a:prstGeom>
          <a:solidFill>
            <a:srgbClr val="6fb9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22520" y="6019920"/>
            <a:ext cx="7027920" cy="433440"/>
          </a:xfrm>
          <a:prstGeom prst="rect">
            <a:avLst/>
          </a:prstGeom>
          <a:gradFill rotWithShape="0">
            <a:gsLst>
              <a:gs pos="0">
                <a:srgbClr val="6fb9d7"/>
              </a:gs>
              <a:gs pos="100000">
                <a:srgbClr val="a6d3e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56307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隶书"/>
                <a:ea typeface="华文隶书"/>
              </a:rPr>
              <a:t>每一篇教育叙事必须要有对解决结果的描述，从头到尾形成一个完整的整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82560" y="3500280"/>
            <a:ext cx="70930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19280" y="3535200"/>
            <a:ext cx="7031160" cy="416160"/>
          </a:xfrm>
          <a:prstGeom prst="rect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935520"/>
            <a:ext cx="7045200" cy="434880"/>
          </a:xfrm>
          <a:prstGeom prst="rect">
            <a:avLst/>
          </a:prstGeom>
          <a:gradFill rotWithShape="0">
            <a:gsLst>
              <a:gs pos="0">
                <a:srgbClr val="ff7f00"/>
              </a:gs>
              <a:gs pos="100000">
                <a:srgbClr val="feb06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19280" y="1876320"/>
            <a:ext cx="7056360" cy="855720"/>
            <a:chOff x="1619280" y="1876320"/>
            <a:chExt cx="7056360" cy="855720"/>
          </a:xfrm>
        </p:grpSpPr>
        <p:sp>
          <p:nvSpPr>
            <p:cNvPr id="537" name=""/>
            <p:cNvSpPr/>
            <p:nvPr/>
          </p:nvSpPr>
          <p:spPr>
            <a:xfrm>
              <a:off x="1638360" y="1876320"/>
              <a:ext cx="7030800" cy="425520"/>
            </a:xfrm>
            <a:prstGeom prst="rect">
              <a:avLst/>
            </a:prstGeom>
            <a:solidFill>
              <a:srgbClr val="b3dc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19280" y="2300040"/>
              <a:ext cx="7056360" cy="432000"/>
            </a:xfrm>
            <a:prstGeom prst="rect">
              <a:avLst/>
            </a:prstGeom>
            <a:gradFill rotWithShape="0">
              <a:gsLst>
                <a:gs pos="0">
                  <a:srgbClr val="b3dc27"/>
                </a:gs>
                <a:gs pos="100000">
                  <a:srgbClr val="cfe8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835280" y="19098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时间、地点、任务、起因等。                            要能够说明故事发生的原因和当时的特殊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4365720"/>
            <a:ext cx="7031160" cy="415800"/>
          </a:xfrm>
          <a:prstGeom prst="rect">
            <a:avLst/>
          </a:pr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19280" y="357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不一定要将整个事件全部呈现，可以从中选择那些可以凸现问题焦点或矛盾冲突的部分；要有适当的描写、关注细节、交代完整的情境、引人入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302000" y="484812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6fb9d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302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教育叙事的写作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112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写作流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213516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89400" y="348444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b3dc2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36920" y="2570040"/>
            <a:ext cx="405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48080" y="2579760"/>
            <a:ext cx="4025880" cy="425520"/>
          </a:xfrm>
          <a:prstGeom prst="rect">
            <a:avLst/>
          </a:prstGeom>
          <a:solidFill>
            <a:srgbClr val="b3dc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49520" y="2976480"/>
            <a:ext cx="4024440" cy="498600"/>
          </a:xfrm>
          <a:prstGeom prst="rect">
            <a:avLst/>
          </a:prstGeom>
          <a:gradFill rotWithShape="0">
            <a:gsLst>
              <a:gs pos="0">
                <a:srgbClr val="b3dc27"/>
              </a:gs>
              <a:gs pos="100000">
                <a:srgbClr val="cfe8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93960" y="29973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写好叙事的首要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23960" y="3921120"/>
            <a:ext cx="4051080" cy="914400"/>
            <a:chOff x="2523960" y="3921120"/>
            <a:chExt cx="4051080" cy="914400"/>
          </a:xfrm>
        </p:grpSpPr>
        <p:sp>
          <p:nvSpPr>
            <p:cNvPr id="552" name=""/>
            <p:cNvSpPr/>
            <p:nvPr/>
          </p:nvSpPr>
          <p:spPr>
            <a:xfrm>
              <a:off x="2523960" y="39211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45920" y="3930480"/>
              <a:ext cx="4015080" cy="415800"/>
            </a:xfrm>
            <a:prstGeom prst="rect">
              <a:avLst/>
            </a:prstGeom>
            <a:solidFill>
              <a:srgbClr val="6fb9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36560" y="432756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6fb9d7"/>
                </a:gs>
                <a:gs pos="100000">
                  <a:srgbClr val="a6d3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2771640" y="4349880"/>
            <a:ext cx="36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叙事生动的决定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81480" y="25639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明确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81480" y="389880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组织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523960" y="1224000"/>
            <a:ext cx="4051080" cy="914400"/>
            <a:chOff x="2523960" y="1224000"/>
            <a:chExt cx="4051080" cy="914400"/>
          </a:xfrm>
        </p:grpSpPr>
        <p:sp>
          <p:nvSpPr>
            <p:cNvPr id="559" name=""/>
            <p:cNvSpPr/>
            <p:nvPr/>
          </p:nvSpPr>
          <p:spPr>
            <a:xfrm>
              <a:off x="2523960" y="12240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44480" y="1233360"/>
              <a:ext cx="4016520" cy="41616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36560" y="16304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7f00"/>
                </a:gs>
                <a:gs pos="100000">
                  <a:srgbClr val="feb0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938320" y="1628640"/>
            <a:ext cx="32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做好事件收集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381480" y="119700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前期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36920" y="5322960"/>
            <a:ext cx="405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58880" y="5332320"/>
            <a:ext cx="4015080" cy="416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49520" y="5729400"/>
            <a:ext cx="4024440" cy="498240"/>
          </a:xfrm>
          <a:prstGeom prst="rect">
            <a:avLst/>
          </a:prstGeom>
          <a:solidFill>
            <a:srgbClr val="00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71640" y="573408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提升高度的精华所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94080" y="5300640"/>
            <a:ext cx="24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分析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-36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71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46200" y="2058840"/>
            <a:ext cx="5896080" cy="122580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47640" y="4005360"/>
            <a:ext cx="5853240" cy="158436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40040" y="2205000"/>
            <a:ext cx="41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平平淡淡、真真切切、脉络清晰、重点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640" y="2225520"/>
            <a:ext cx="1806480" cy="930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82640" y="24685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华文隶书"/>
                <a:ea typeface="华文隶书"/>
              </a:rPr>
              <a:t>白描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5640" y="432288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7960" y="458316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华文隶书"/>
                <a:ea typeface="华文隶书"/>
              </a:rPr>
              <a:t>夹叙夹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90840" y="4143240"/>
            <a:ext cx="474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华文隶书"/>
                <a:ea typeface="华文隶书"/>
              </a:rPr>
              <a:t>我想”、“我当时想”、“事后想起来”、“我估计”、“我猜想”等话语切入议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2880" y="404640"/>
            <a:ext cx="630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适宜叙事的基本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817560" y="225252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812880" y="4356000"/>
            <a:ext cx="1689120" cy="24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0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2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4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1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77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0" dur="770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2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4" dur="77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9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1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3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06600" y="3789000"/>
            <a:ext cx="41101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谢谢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629160" y="3110040"/>
            <a:ext cx="1885680" cy="637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629160" y="3110040"/>
            <a:ext cx="1885680" cy="6379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3629160" y="3110040"/>
            <a:ext cx="1885680" cy="637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7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8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9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10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11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2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3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4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5"/>
          <a:stretch/>
        </p:blipFill>
        <p:spPr>
          <a:xfrm>
            <a:off x="3728880" y="3086280"/>
            <a:ext cx="1686240" cy="6858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6"/>
          <a:stretch/>
        </p:blipFill>
        <p:spPr>
          <a:xfrm>
            <a:off x="468360" y="2276640"/>
            <a:ext cx="1685880" cy="6858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7"/>
          <a:stretch/>
        </p:blipFill>
        <p:spPr>
          <a:xfrm>
            <a:off x="2700360" y="2349360"/>
            <a:ext cx="1685880" cy="6858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8"/>
          <a:stretch/>
        </p:blipFill>
        <p:spPr>
          <a:xfrm>
            <a:off x="3780000" y="2276640"/>
            <a:ext cx="1685880" cy="6858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9"/>
          <a:stretch/>
        </p:blipFill>
        <p:spPr>
          <a:xfrm>
            <a:off x="4284720" y="2205000"/>
            <a:ext cx="1685880" cy="6858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0"/>
          <a:stretch/>
        </p:blipFill>
        <p:spPr>
          <a:xfrm>
            <a:off x="6443640" y="5300640"/>
            <a:ext cx="2293920" cy="792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1"/>
          <a:stretch/>
        </p:blipFill>
        <p:spPr>
          <a:xfrm>
            <a:off x="6516720" y="1916280"/>
            <a:ext cx="2293920" cy="7920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2"/>
          <a:stretch/>
        </p:blipFill>
        <p:spPr>
          <a:xfrm>
            <a:off x="6516720" y="2492280"/>
            <a:ext cx="2293920" cy="792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3"/>
          <a:stretch/>
        </p:blipFill>
        <p:spPr>
          <a:xfrm>
            <a:off x="5076720" y="2060640"/>
            <a:ext cx="2293920" cy="1152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876320" y="1792440"/>
            <a:ext cx="5311800" cy="688680"/>
            <a:chOff x="1876320" y="1792440"/>
            <a:chExt cx="5311800" cy="688680"/>
          </a:xfrm>
        </p:grpSpPr>
        <p:sp>
          <p:nvSpPr>
            <p:cNvPr id="127" name=""/>
            <p:cNvSpPr/>
            <p:nvPr/>
          </p:nvSpPr>
          <p:spPr>
            <a:xfrm>
              <a:off x="1876320" y="179244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3dc27"/>
                </a:gs>
                <a:gs pos="50000">
                  <a:srgbClr val="a4c923"/>
                </a:gs>
                <a:gs pos="100000">
                  <a:srgbClr val="b3d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89280" y="1813680"/>
              <a:ext cx="5292000" cy="636840"/>
              <a:chOff x="1889280" y="1813680"/>
              <a:chExt cx="5292000" cy="6368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89280" y="2285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dc27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89280" y="1813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3dc2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876320" y="2585880"/>
            <a:ext cx="5311800" cy="689040"/>
            <a:chOff x="1876320" y="2585880"/>
            <a:chExt cx="5311800" cy="689040"/>
          </a:xfrm>
        </p:grpSpPr>
        <p:sp>
          <p:nvSpPr>
            <p:cNvPr id="132" name=""/>
            <p:cNvSpPr/>
            <p:nvPr/>
          </p:nvSpPr>
          <p:spPr>
            <a:xfrm>
              <a:off x="1876320" y="25858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889280" y="2607120"/>
              <a:ext cx="5292000" cy="636840"/>
              <a:chOff x="1889280" y="2607120"/>
              <a:chExt cx="5292000" cy="636840"/>
            </a:xfrm>
          </p:grpSpPr>
          <p:sp>
            <p:nvSpPr>
              <p:cNvPr id="134" name=""/>
              <p:cNvSpPr/>
              <p:nvPr/>
            </p:nvSpPr>
            <p:spPr>
              <a:xfrm>
                <a:off x="1889280" y="3079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89280" y="2607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1876320" y="3371760"/>
            <a:ext cx="5311800" cy="689040"/>
            <a:chOff x="1876320" y="3371760"/>
            <a:chExt cx="5311800" cy="689040"/>
          </a:xfrm>
        </p:grpSpPr>
        <p:sp>
          <p:nvSpPr>
            <p:cNvPr id="137" name=""/>
            <p:cNvSpPr/>
            <p:nvPr/>
          </p:nvSpPr>
          <p:spPr>
            <a:xfrm>
              <a:off x="1876320" y="3371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93d17"/>
                </a:gs>
                <a:gs pos="50000">
                  <a:srgbClr val="e43715"/>
                </a:gs>
                <a:gs pos="100000">
                  <a:srgbClr val="f93d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889280" y="3393000"/>
              <a:ext cx="5292000" cy="636840"/>
              <a:chOff x="1889280" y="3393000"/>
              <a:chExt cx="5292000" cy="636840"/>
            </a:xfrm>
          </p:grpSpPr>
          <p:sp>
            <p:nvSpPr>
              <p:cNvPr id="139" name=""/>
              <p:cNvSpPr/>
              <p:nvPr/>
            </p:nvSpPr>
            <p:spPr>
              <a:xfrm>
                <a:off x="1889280" y="3864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3d17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89280" y="3393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93d1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1876320" y="1001880"/>
            <a:ext cx="5311800" cy="688680"/>
            <a:chOff x="1876320" y="1001880"/>
            <a:chExt cx="5311800" cy="688680"/>
          </a:xfrm>
        </p:grpSpPr>
        <p:sp>
          <p:nvSpPr>
            <p:cNvPr id="142" name=""/>
            <p:cNvSpPr/>
            <p:nvPr/>
          </p:nvSpPr>
          <p:spPr>
            <a:xfrm>
              <a:off x="1876320" y="1001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00"/>
                </a:gs>
                <a:gs pos="50000">
                  <a:srgbClr val="ea7400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889280" y="1023120"/>
              <a:ext cx="5292000" cy="636840"/>
              <a:chOff x="1889280" y="1023120"/>
              <a:chExt cx="5292000" cy="636840"/>
            </a:xfrm>
          </p:grpSpPr>
          <p:sp>
            <p:nvSpPr>
              <p:cNvPr id="144" name=""/>
              <p:cNvSpPr/>
              <p:nvPr/>
            </p:nvSpPr>
            <p:spPr>
              <a:xfrm>
                <a:off x="1889280" y="1495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89280" y="1023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7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2597040" y="105264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叙事与教育叙事的概念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184464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教育叙事的本质及特点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26370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教育叙事的认识误区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3429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教育叙事的作用</a:t>
            </a:r>
            <a:r>
              <a:rPr b="1" lang="zh-CN" sz="2400" spc="-1" strike="noStrike">
                <a:solidFill>
                  <a:srgbClr val="ffffff"/>
                </a:solidFill>
                <a:latin typeface="华文隶书"/>
                <a:ea typeface="华文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6560" y="342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6560" y="10494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70200" y="18795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二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0200" y="2637000"/>
            <a:ext cx="7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6302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内容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52560" y="4148280"/>
            <a:ext cx="5311800" cy="688680"/>
            <a:chOff x="1852560" y="4148280"/>
            <a:chExt cx="5311800" cy="688680"/>
          </a:xfrm>
        </p:grpSpPr>
        <p:sp>
          <p:nvSpPr>
            <p:cNvPr id="156" name=""/>
            <p:cNvSpPr/>
            <p:nvPr/>
          </p:nvSpPr>
          <p:spPr>
            <a:xfrm>
              <a:off x="1852560" y="41482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865520" y="4169520"/>
              <a:ext cx="5292000" cy="636840"/>
              <a:chOff x="1865520" y="4169520"/>
              <a:chExt cx="5292000" cy="636840"/>
            </a:xfrm>
          </p:grpSpPr>
          <p:sp>
            <p:nvSpPr>
              <p:cNvPr id="158" name=""/>
              <p:cNvSpPr/>
              <p:nvPr/>
            </p:nvSpPr>
            <p:spPr>
              <a:xfrm>
                <a:off x="1865520" y="4641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65520" y="4169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1908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五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42181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教育叙事的表现形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76320" y="4962600"/>
            <a:ext cx="5311800" cy="689040"/>
            <a:chOff x="1876320" y="4962600"/>
            <a:chExt cx="5311800" cy="689040"/>
          </a:xfrm>
        </p:grpSpPr>
        <p:sp>
          <p:nvSpPr>
            <p:cNvPr id="163" name=""/>
            <p:cNvSpPr/>
            <p:nvPr/>
          </p:nvSpPr>
          <p:spPr>
            <a:xfrm>
              <a:off x="1876320" y="496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00"/>
                </a:gs>
                <a:gs pos="50000">
                  <a:srgbClr val="ea7400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889280" y="4983840"/>
              <a:ext cx="5292000" cy="636840"/>
              <a:chOff x="1889280" y="4983840"/>
              <a:chExt cx="5292000" cy="636840"/>
            </a:xfrm>
          </p:grpSpPr>
          <p:sp>
            <p:nvSpPr>
              <p:cNvPr id="165" name=""/>
              <p:cNvSpPr/>
              <p:nvPr/>
            </p:nvSpPr>
            <p:spPr>
              <a:xfrm>
                <a:off x="1889280" y="545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89280" y="498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7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2381400" y="5013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教育叙事的写作方法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30320" y="5013360"/>
            <a:ext cx="8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六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876320" y="5753160"/>
            <a:ext cx="5311800" cy="689040"/>
            <a:chOff x="1876320" y="5753160"/>
            <a:chExt cx="5311800" cy="689040"/>
          </a:xfrm>
        </p:grpSpPr>
        <p:sp>
          <p:nvSpPr>
            <p:cNvPr id="170" name=""/>
            <p:cNvSpPr/>
            <p:nvPr/>
          </p:nvSpPr>
          <p:spPr>
            <a:xfrm>
              <a:off x="1876320" y="57531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3dc27"/>
                </a:gs>
                <a:gs pos="50000">
                  <a:srgbClr val="a4c923"/>
                </a:gs>
                <a:gs pos="100000">
                  <a:srgbClr val="b3d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889280" y="5774400"/>
              <a:ext cx="5292000" cy="636840"/>
              <a:chOff x="1889280" y="5774400"/>
              <a:chExt cx="5292000" cy="636840"/>
            </a:xfrm>
          </p:grpSpPr>
          <p:sp>
            <p:nvSpPr>
              <p:cNvPr id="172" name=""/>
              <p:cNvSpPr/>
              <p:nvPr/>
            </p:nvSpPr>
            <p:spPr>
              <a:xfrm>
                <a:off x="1889280" y="62463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dc27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89280" y="57744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3dc2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2340000" y="5805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适宜叙事的基本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43280" y="580536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55640" y="2925360"/>
            <a:ext cx="7824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叙事：是人类最基本的生存方式和表达方式，它被保留在小说、电影、电视、诗歌、绘画等艺术领域。叙事即叙述故事，是为了告诉人们发生了什么事的一系列口头的、符号的以及行为的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当它与教育联系在一起时，就形成了教育叙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叙事的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1700280"/>
            <a:ext cx="770400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68360" y="1125360"/>
            <a:ext cx="4686120" cy="574560"/>
            <a:chOff x="2268360" y="1125360"/>
            <a:chExt cx="4686120" cy="574560"/>
          </a:xfrm>
        </p:grpSpPr>
        <p:sp>
          <p:nvSpPr>
            <p:cNvPr id="180" name=""/>
            <p:cNvSpPr/>
            <p:nvPr/>
          </p:nvSpPr>
          <p:spPr>
            <a:xfrm>
              <a:off x="2268360" y="1125360"/>
              <a:ext cx="4686120" cy="574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00"/>
                </a:gs>
                <a:gs pos="50000">
                  <a:srgbClr val="ea7400"/>
                </a:gs>
                <a:gs pos="100000">
                  <a:srgbClr val="ff7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79520" y="1143000"/>
              <a:ext cx="4668840" cy="531360"/>
              <a:chOff x="2279520" y="1143000"/>
              <a:chExt cx="4668840" cy="53136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9520" y="1536120"/>
                <a:ext cx="46688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00">
                      <a:alpha val="0"/>
                    </a:srgbClr>
                  </a:gs>
                  <a:gs pos="100000">
                    <a:srgbClr val="fee4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79520" y="1143000"/>
                <a:ext cx="46688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e1c5"/>
                  </a:gs>
                  <a:gs pos="100000">
                    <a:srgbClr val="ff7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3915720" y="1125360"/>
            <a:ext cx="1595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罗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巴特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844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有了人类历史本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有了叙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7893000"/>
            <a:ext cx="78249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有关学者观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蒋泽标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研究综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一文中认为：社会学研究中的“叙事研究”，借鉴了文艺理论中的“叙事学”。简言之，“叙”就是叙述，“事”就是故事，教育叙事就是指叙述教学中的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真实情境、过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叶平校长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谈校本研修之教育叙述研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一文中认为：教育叙事就是“讲教育故事”，要求教师以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合理有效的方式解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自己在教室或其它场所里发生的教育、教学问题，然后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将自己怎样遇到这个问题，怎样解决这个问题的整个教学过程“叙述”出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8880" y="1971720"/>
            <a:ext cx="8136000" cy="18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04960" y="1197000"/>
            <a:ext cx="3335400" cy="574560"/>
            <a:chOff x="804960" y="1197000"/>
            <a:chExt cx="3335400" cy="574560"/>
          </a:xfrm>
        </p:grpSpPr>
        <p:sp>
          <p:nvSpPr>
            <p:cNvPr id="190" name=""/>
            <p:cNvSpPr/>
            <p:nvPr/>
          </p:nvSpPr>
          <p:spPr>
            <a:xfrm>
              <a:off x="804960" y="1197000"/>
              <a:ext cx="3335400" cy="574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3dc27"/>
                </a:gs>
                <a:gs pos="50000">
                  <a:srgbClr val="a4c923"/>
                </a:gs>
                <a:gs pos="100000">
                  <a:srgbClr val="b3dc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12880" y="1214640"/>
              <a:ext cx="3323160" cy="531000"/>
              <a:chOff x="812880" y="1214640"/>
              <a:chExt cx="3323160" cy="531000"/>
            </a:xfrm>
          </p:grpSpPr>
          <p:sp>
            <p:nvSpPr>
              <p:cNvPr id="192" name=""/>
              <p:cNvSpPr/>
              <p:nvPr/>
            </p:nvSpPr>
            <p:spPr>
              <a:xfrm>
                <a:off x="812880" y="1608120"/>
                <a:ext cx="3323160" cy="13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dc27">
                      <a:alpha val="0"/>
                    </a:srgbClr>
                  </a:gs>
                  <a:gs pos="100000">
                    <a:srgbClr val="eff7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2880" y="1214640"/>
                <a:ext cx="332316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f8dc"/>
                  </a:gs>
                  <a:gs pos="100000">
                    <a:srgbClr val="b3dc2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2217960" y="1197000"/>
            <a:ext cx="53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一）有关学者观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3240" y="1989000"/>
            <a:ext cx="833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蒋泽标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研究综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一文中认为：社会学研究中的“叙事研究”，借鉴了文艺理论中的“叙事学”。简言之，“叙”就是叙述，“事”就是故事，教育叙事就是指叙述教学中的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真实情境、过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8880" y="4149720"/>
            <a:ext cx="817236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0520" y="422604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叶平校长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谈校本研修之教育叙述研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一文中认为：教育叙事就是“讲教育故事”，要求教师以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合理有效的方式解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自己在教室或其它场所里发生的教育、教学问题，然后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将自己怎样遇到这个问题，怎样解决这个问题的整个教学过程“叙述”出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8108640"/>
            <a:ext cx="78249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就是讲教育故事，是教师用叙事的方法来记录下自己在教育实践、教育生活中发生的各种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真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的教育事件和故事，在对亲身经历的叙述过程中，表达自己的内心体验和对于教育的理解感悟。可以认为它是一种叙事化的教育反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349360"/>
            <a:ext cx="720108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55640" y="1341360"/>
            <a:ext cx="3745080" cy="503280"/>
            <a:chOff x="755640" y="1341360"/>
            <a:chExt cx="3745080" cy="503280"/>
          </a:xfrm>
        </p:grpSpPr>
        <p:sp>
          <p:nvSpPr>
            <p:cNvPr id="202" name=""/>
            <p:cNvSpPr/>
            <p:nvPr/>
          </p:nvSpPr>
          <p:spPr>
            <a:xfrm>
              <a:off x="755640" y="1341360"/>
              <a:ext cx="3745080" cy="50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fb9d7"/>
                </a:gs>
                <a:gs pos="50000">
                  <a:srgbClr val="65a9c5"/>
                </a:gs>
                <a:gs pos="100000">
                  <a:srgbClr val="6fb9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764640" y="1356840"/>
              <a:ext cx="3731400" cy="465120"/>
              <a:chOff x="764640" y="1356840"/>
              <a:chExt cx="3731400" cy="465120"/>
            </a:xfrm>
          </p:grpSpPr>
          <p:sp>
            <p:nvSpPr>
              <p:cNvPr id="204" name=""/>
              <p:cNvSpPr/>
              <p:nvPr/>
            </p:nvSpPr>
            <p:spPr>
              <a:xfrm>
                <a:off x="764640" y="1701720"/>
                <a:ext cx="3731400" cy="12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9d7">
                      <a:alpha val="0"/>
                    </a:srgbClr>
                  </a:gs>
                  <a:gs pos="100000">
                    <a:srgbClr val="d9e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4640" y="1356840"/>
                <a:ext cx="373140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6fb9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1206720" y="1325520"/>
            <a:ext cx="2705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二）教育叙事的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5750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就是讲教育故事，是教师用叙事的方法来记录下自己在教育实践、教育生活中发生的各种</a:t>
            </a:r>
            <a:r>
              <a:rPr b="0" lang="zh-CN" sz="2800" spc="-1" strike="noStrike">
                <a:solidFill>
                  <a:srgbClr val="f93d17"/>
                </a:solidFill>
                <a:latin typeface="Arial"/>
                <a:ea typeface="华文隶书"/>
              </a:rPr>
              <a:t>真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的教育事件和故事，在对亲身经历的叙述过程中，表达自己的内心体验和对于教育的理解感悟。可以认为它是一种叙事化的教育反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8249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（一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寻找一种能够更好地呈现教学和教育经验的研究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就是为了更好地呈现经验，以便引起他人的共鸣或实现与他人的共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（二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在科学和人文这两个极点之间寻求一种中间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经验属于教育科学理论的范畴，易流于晦涩、枯燥；叙述属于人文文学范畴，具体、生动、形象，教育叙事在二者之间找到平衡，从而更容易使人接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本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640" y="1485720"/>
            <a:ext cx="78249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（三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是教育教学实践的升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本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65560" y="335916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93d1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1560" y="470844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b3dc2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359080" y="3794040"/>
            <a:ext cx="4051080" cy="914400"/>
            <a:chOff x="2359080" y="3794040"/>
            <a:chExt cx="4051080" cy="914400"/>
          </a:xfrm>
        </p:grpSpPr>
        <p:sp>
          <p:nvSpPr>
            <p:cNvPr id="215" name=""/>
            <p:cNvSpPr/>
            <p:nvPr/>
          </p:nvSpPr>
          <p:spPr>
            <a:xfrm>
              <a:off x="2359080" y="379404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9880" y="3803400"/>
              <a:ext cx="4025520" cy="425520"/>
            </a:xfrm>
            <a:prstGeom prst="rect">
              <a:avLst/>
            </a:prstGeom>
            <a:solidFill>
              <a:srgbClr val="b3dc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71320" y="420048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b3dc27"/>
                </a:gs>
                <a:gs pos="100000">
                  <a:srgbClr val="cfe8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346480" y="5145120"/>
            <a:ext cx="4051080" cy="914400"/>
            <a:chOff x="2346480" y="5145120"/>
            <a:chExt cx="4051080" cy="914400"/>
          </a:xfrm>
        </p:grpSpPr>
        <p:sp>
          <p:nvSpPr>
            <p:cNvPr id="219" name=""/>
            <p:cNvSpPr/>
            <p:nvPr/>
          </p:nvSpPr>
          <p:spPr>
            <a:xfrm>
              <a:off x="2346480" y="51451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8440" y="5154480"/>
              <a:ext cx="4015080" cy="415800"/>
            </a:xfrm>
            <a:prstGeom prst="rect">
              <a:avLst/>
            </a:prstGeom>
            <a:solidFill>
              <a:srgbClr val="6fb9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59080" y="555156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6fb9d7"/>
                </a:gs>
                <a:gs pos="100000">
                  <a:srgbClr val="a6d3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47840" y="5084640"/>
            <a:ext cx="24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理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346480" y="2448000"/>
            <a:ext cx="4051080" cy="914400"/>
            <a:chOff x="2346480" y="2448000"/>
            <a:chExt cx="4051080" cy="914400"/>
          </a:xfrm>
        </p:grpSpPr>
        <p:sp>
          <p:nvSpPr>
            <p:cNvPr id="224" name=""/>
            <p:cNvSpPr/>
            <p:nvPr/>
          </p:nvSpPr>
          <p:spPr>
            <a:xfrm>
              <a:off x="2346480" y="24480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7000" y="2457360"/>
              <a:ext cx="4016520" cy="41616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9080" y="28544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7f00"/>
                </a:gs>
                <a:gs pos="100000">
                  <a:srgbClr val="feb0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3640" y="3716280"/>
            <a:ext cx="24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知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349360"/>
            <a:ext cx="24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感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6857640"/>
            <a:ext cx="7824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1.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真实性：必须是真实的，已经发生过的时间，不是想象中的时间，不能进行设计和假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人物性：教师要能将自己放到故事中去，从自己的角度来观察整个事件，进行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情节性：教育叙事不是记流水账，要能有突出的情节和生动的过程，要能记叙有一定情节的、有教育意义的、相对完整的教育教学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可读性：能调动阅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感悟性：故事的背后有认识及教育理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902880" y="198000"/>
            <a:ext cx="63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的特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7560" y="1065240"/>
            <a:ext cx="7516800" cy="98568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2720" y="11145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必须是真实的，已经发生过的事件，不是想象中的事件，不能进行设计和假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31920"/>
            <a:ext cx="1563840" cy="60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258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真实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11280" y="1258920"/>
            <a:ext cx="1436760" cy="20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87560" y="2133720"/>
            <a:ext cx="7516800" cy="98568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2720" y="21826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师要能将自己放到故事中去，从自己的角度来观察整个事件，进行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7560" y="3213000"/>
            <a:ext cx="7516800" cy="165600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6560" y="3141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教育叙事不是记流水账，要能有突出的情节和生动的过程，要能记叙有一定情节的、有教育意义的、相对完整的教育教学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7560" y="4941720"/>
            <a:ext cx="7516800" cy="71928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501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能调动阅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4987800"/>
            <a:ext cx="1563840" cy="601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014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可读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611280" y="5014800"/>
            <a:ext cx="1436760" cy="208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7560" y="5742000"/>
            <a:ext cx="7516800" cy="71136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c4c4c4"/>
              </a:gs>
              <a:gs pos="50000">
                <a:srgbClr val="c0c0c0">
                  <a:alpha val="30196"/>
                </a:srgbClr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68360" y="5805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故事的背后有认识及教育理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2349360"/>
            <a:ext cx="1584360" cy="598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1360" y="234936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人物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11280" y="2349360"/>
            <a:ext cx="1439640" cy="203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3774960"/>
            <a:ext cx="1584360" cy="590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情节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611280" y="3795840"/>
            <a:ext cx="1439640" cy="209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39640" y="5805360"/>
            <a:ext cx="1584360" cy="5986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f8f8f8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1360" y="580536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感悟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611280" y="5805360"/>
            <a:ext cx="1439640" cy="203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1:46:15Z</dcterms:created>
  <dc:creator>jiaomo</dc:creator>
  <dc:description/>
  <dc:language>en-US</dc:language>
  <cp:lastModifiedBy>jiaomo</cp:lastModifiedBy>
  <dcterms:modified xsi:type="dcterms:W3CDTF">2012-08-23T03:13:08Z</dcterms:modified>
  <cp:revision>25</cp:revision>
  <dc:subject/>
  <dc:title>教师教育叙事</dc:title>
</cp:coreProperties>
</file>